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244-2193-4F84-AAA3-9B8668BE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B05-1EB0-4845-B8C4-5758993C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845-0567-4227-9F3C-CC26E282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624-5BD8-47F5-BF3D-ABE3AE7E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2B2-A0B8-40E1-9A87-D1EE1E83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50F-E817-4B74-8B19-AAE23767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817-127C-4653-AE5F-DE0B4C49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4A0-C12E-43A9-A0F3-87A44968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BD5-283C-4D16-A3A3-F06043AB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EC9-7568-4957-B15B-91CD0066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9A3-CB17-4D29-8934-8533A5F1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D77-422D-41B6-BC37-03336690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EB58-74BD-40B6-BA4E-6EBBF117D6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Слайд №38</a:t>
            </a:r>
            <a:br>
              <a:rPr sz="1200"/>
            </a:b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Пример  учета периода военной службы при </a:t>
            </a:r>
            <a:r>
              <a:rPr b="1" i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исчисления страхового стажа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(ст.16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ФЗ №255-ФЗ) </a:t>
            </a:r>
            <a:br>
              <a:rPr sz="3600"/>
            </a:b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121932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ериоды прохожд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оенной службы до 31.12.2006 года учитываются  в порядке, установленном ст. 17 Закона №255-ФЗ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 1 января 2007 года в случае если период военной службы  согласно Закону   от 24.07.2009 №213-ФЗ   влияет на размер пособия, осуществляется дополнительное финансирование за счет средств   федерального бюдж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Наприме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страхованный заболел 1 февраля 2010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6 лет  военной службы до 31.12.2006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 года военной службы    за период с 1.01.2007 по 31.12.2008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а по трудовому  договору  7 месяцев ( с 01.07.2009 по 1 февраля 2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г.)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й страховой стаж  с учетом всей военной службы  до 31.12.2006 составляет 6,7 лет  -размер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собия  80 % среднего заработ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ем в страховой стаж 2 года  военной службы после 2006 года. Итого:  стаж  8,7 лет –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мер пособия    100% среднего зарабо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ница между ними  20%. Пособие в размере 20 % необходимо отнести на расходы федерального бюджета (показать  в форме -4 ФСС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03T07:30:33Z</dcterms:modified>
  <cp:revision>2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